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42615"/>
        <c:axId val="7158648"/>
      </c:barChart>
      <c:catAx>
        <c:axId val="62742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648"/>
        <c:crosses val="autoZero"/>
        <c:auto val="1"/>
        <c:lblAlgn val="ctr"/>
        <c:lblOffset val="100"/>
        <c:noMultiLvlLbl val="0"/>
      </c:catAx>
      <c:valAx>
        <c:axId val="7158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42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769-543C-45B3-9DD3-C01028FB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F2D-AC60-46D8-AA5C-18E8386C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8BE-25D9-4E05-BEE1-6CD59F9B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9CE-37E9-4260-965D-0000EED2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11A-2327-4EBC-A298-8336210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E39-6D96-4DD3-86BB-8CD92B7B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5D2A-9402-4668-9E43-26AD214C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7FB-1A45-486A-9C44-E55BE2B4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166-9D8C-4477-8BC7-6B691918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DB2-DBAA-4523-A7F2-E8B5571E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C3C-B612-4CCE-A7B4-07E6A347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2ED-B2D7-4DFD-885C-2806781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70790-962D-4B49-9913-AFD0E522E5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