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86302"/>
        <c:axId val="58730927"/>
      </c:barChart>
      <c:catAx>
        <c:axId val="93386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30927"/>
        <c:crosses val="autoZero"/>
        <c:auto val="1"/>
        <c:lblAlgn val="ctr"/>
        <c:lblOffset val="100"/>
        <c:noMultiLvlLbl val="0"/>
      </c:catAx>
      <c:valAx>
        <c:axId val="58730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6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8C7-AF9B-4EF8-9D9E-2804A451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7C8-F4CF-4C66-8300-BFB93C2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A6D-ECB2-4F4A-B6BB-AA65367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8EA-9EBC-4107-840C-01E6E8A8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097-113F-4141-95C9-48615411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7A6-E4A5-4498-AA86-874ACED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686-C935-4BB1-AD42-FC803ACF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407-34D3-4722-B8B0-F427DF33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C4D-980F-44E3-84EA-4818FC36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8B9-992E-413C-8412-DAB72AC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18A-48B0-484B-AE60-6C925BE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FA5-AAF1-4336-9FE3-77D4C18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7372-A805-439D-AC35-9DFC1DB7C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