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04521"/>
        <c:axId val="71544958"/>
      </c:barChart>
      <c:catAx>
        <c:axId val="51704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4958"/>
        <c:crosses val="autoZero"/>
        <c:auto val="1"/>
        <c:lblAlgn val="ctr"/>
        <c:lblOffset val="100"/>
        <c:noMultiLvlLbl val="0"/>
      </c:catAx>
      <c:valAx>
        <c:axId val="71544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04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6B-9ED1-4006-A01F-72F9AF46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BF2-1588-4D6B-8956-734480BD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A04-F0E9-41E8-8225-F350428A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30F-8C6D-48C8-A732-BFB9FA0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6C3-479B-40ED-BE64-67DDBB9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83F-7BBD-4ADC-8959-D710F2C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BC8-A0A4-4E4D-A080-2B8CB61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270-75E8-4696-B2C0-3FEEB79F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FA6-2DF7-40DD-AE48-C4CE05D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503-6D38-48B6-8F45-5FCBDCB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D8-7CF6-4336-8540-77586A7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245-6F1C-4101-96FC-C80A2BFC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7BF3C-3515-44E6-AF06-01E1014CD3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