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59265"/>
        <c:axId val="75451351"/>
      </c:barChart>
      <c:catAx>
        <c:axId val="72659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51351"/>
        <c:crosses val="autoZero"/>
        <c:auto val="1"/>
        <c:lblAlgn val="ctr"/>
        <c:lblOffset val="100"/>
        <c:noMultiLvlLbl val="0"/>
      </c:catAx>
      <c:valAx>
        <c:axId val="75451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59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A793-1912-4CFD-B210-6D5437D8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B15-67A1-42DE-8B96-EBFB4843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31C-F215-4814-A895-70151C6F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433-CDA3-4C43-843D-BA4D6FEB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0B0-A592-471A-AE7B-23F49E85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918-B8D4-4432-B5C6-9BA77E5D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3EAE-EEB3-4037-8947-E117C249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65F2-76A9-4766-9E77-85D882C6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9E58-A2BC-4001-B78D-8D0256E7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341-00BE-4BA2-92EE-620591DF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7D78-94D3-4551-974B-9DF64934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769-057E-4E4F-89CF-135621A3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20251-E8EC-4D9D-91E1-3E12240C38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