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8619"/>
        <c:axId val="23182765"/>
      </c:barChart>
      <c:catAx>
        <c:axId val="89848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82765"/>
        <c:crosses val="autoZero"/>
        <c:auto val="1"/>
        <c:lblAlgn val="ctr"/>
        <c:lblOffset val="100"/>
        <c:noMultiLvlLbl val="0"/>
      </c:catAx>
      <c:valAx>
        <c:axId val="23182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8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8D9-2813-4ADE-8FCD-E746209B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CCF-51B1-4363-8F5D-B984602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93B8-F872-49FF-AB9A-1F5FA3F53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EE1-8E87-484A-86A7-0661235B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9F0-D8A0-44C5-A61A-A24FF852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11E-CC9C-4613-A0C3-424841C8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85B-A476-44B4-839A-CBB7E565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A3E-42B4-47F9-B61D-A67C1E5D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D0A-6226-4BAF-92AA-55BEBCD4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139B-3366-498B-AAB1-32625B17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A9F-CF1A-4118-81EC-2A306E2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D2C-5B1F-4F95-A1C4-135747DA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DA78F-50A2-430F-9272-701E0DD8A9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