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48253"/>
        <c:axId val="34079517"/>
      </c:barChart>
      <c:catAx>
        <c:axId val="24848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79517"/>
        <c:crosses val="autoZero"/>
        <c:auto val="1"/>
        <c:lblAlgn val="ctr"/>
        <c:lblOffset val="100"/>
        <c:noMultiLvlLbl val="0"/>
      </c:catAx>
      <c:valAx>
        <c:axId val="34079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48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5E8-D4F8-4090-9AFA-1DAF0871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1D3-FD2A-4232-A2F4-EE938D26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9BB-E890-47B1-9CDD-57A83FFB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377-C44E-4AC6-AF2B-3CDC8D0F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06F-BC09-4012-B77E-4EA2E5D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46F-9EEC-4576-B84D-CFB8B74A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A38-8415-4774-AC39-FC2EAFB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BC1-3944-4589-A845-0C5BA883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335-22E3-44BD-B3BF-8E28BC28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F18-65B6-4E7F-9545-68CA143B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7E4-8230-49A2-8742-400F121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0E9-46E7-494C-A547-0218721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ACA78-9036-414B-BF89-B348445350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